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F20-9136-4B1B-97B4-9F0848EC7C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5FAD-570E-4508-A783-BB5B7BF8AC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3EFA-67FA-45E4-87D1-02581F0BB0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BB69-92B8-4F23-81B6-F95ECB2BB3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A9D8-C66A-49D2-9114-F357172E54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640-3ECC-4F13-ACA7-FD65A68ACF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3784-93CE-4404-A658-1006095A2A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79F6-A94C-48EA-A23F-F1DE17501A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393E-E488-4457-AF1D-4A1F4E95BC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C25-6E13-44DF-87EB-2152A70CC2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894-BC3A-4CAC-9AA7-C8FD710C74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80A-BB61-4835-806D-06AD42D5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B05-EA04-483B-BED8-6AAC501F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6C9-4EA6-427D-B458-55C27188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70D-16F8-4E75-B8F6-370F083C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917-BD1D-4BA0-954F-A929526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999-922E-4172-879A-2D786E6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C48-CFB7-46C6-8505-F08AE02C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035-0E05-4504-8039-A839B6B7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444-E833-4ED9-9082-D5A6030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4F6-1B1C-4C45-9BE6-11EA991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8FE-D5B2-4B00-8469-228522B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428-5A37-48BE-817D-D984EBD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2E0D-D458-48C8-93FE-00384FCEEA2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280360" cy="106200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ARTIMENTALIZAC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125360"/>
            <a:ext cx="3902040" cy="19213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bolismo del 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9080" cy="171900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el metabolismo de los lípidos (Biosíntesis y Degradación) la compartimentalización de ambos procesos permite su regulación. Expl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3284640"/>
            <a:ext cx="7777080" cy="204372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ermediarios de Vías metabólicas sintetizados en mitocondrias pueden regular vías metabólicas que tienen lugar en citosol. Ejemplif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MEOSTASIS DE LA GL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5892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NIVELES DE GLUCOSA EN SANGRE SON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340000" y="1623960"/>
            <a:ext cx="5256360" cy="11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lucemia en ayunas, sangre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70-110 mg/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8360" y="3211560"/>
            <a:ext cx="208764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IODO POSPRA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2700360" y="313992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3067200"/>
            <a:ext cx="216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XIMA GLU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0´- 1 h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372360" y="321156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5076720" y="3284640"/>
            <a:ext cx="1224000" cy="431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6732720" y="3067200"/>
            <a:ext cx="1368360" cy="936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36400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-3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1403280" y="4437000"/>
            <a:ext cx="6481800" cy="10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regulatorio integrado por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47640" y="6093000"/>
            <a:ext cx="6409080" cy="398880"/>
          </a:xfrm>
          <a:prstGeom prst="rect">
            <a:avLst/>
          </a:prstGeom>
          <a:solidFill>
            <a:srgbClr val="eea2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segura suministro permanente a los tejidos (SNC ppl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964720" cy="114300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A EL MANTENIMIENTO DEL NIVEL NORMAL DE GLUCOSA IND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2421000"/>
            <a:ext cx="2592360" cy="703800"/>
          </a:xfrm>
          <a:prstGeom prst="rect">
            <a:avLst/>
          </a:prstGeom>
          <a:solidFill>
            <a:srgbClr val="1f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ER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4797360"/>
            <a:ext cx="259236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O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95640" y="2205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95640" y="4437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947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NDIQUE SOBRE QUE VIAS METABÓLICA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INTERVIENEN IAS HORMONAS PARA MANTENER LA HOMEOSTASI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3960720" cy="3959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REN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CORTIC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ORTI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64000" y="1484280"/>
            <a:ext cx="25207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219640" y="2421000"/>
            <a:ext cx="3708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292720" y="3830760"/>
            <a:ext cx="3600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796000" y="5445000"/>
            <a:ext cx="3095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771640" y="1484280"/>
            <a:ext cx="576360" cy="216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1484280"/>
            <a:ext cx="2016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708360" y="2781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92436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4572000" y="566100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5869080" y="2711160"/>
            <a:ext cx="3240000" cy="1652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6012000" y="4005360"/>
            <a:ext cx="5047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gradFill rotWithShape="0">
            <a:gsLst>
              <a:gs pos="0">
                <a:srgbClr val="6d988d"/>
              </a:gs>
              <a:gs pos="100000">
                <a:srgbClr val="bdfff2"/>
              </a:gs>
            </a:gsLst>
            <a:lin ang="0"/>
          </a:gra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gulación de Enzimas Alost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71680" y="1857240"/>
            <a:ext cx="7772400" cy="45720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solidFill>
            <a:srgbClr val="ffd1e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Regulación Co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Rectangle 3"/>
          <p:cNvGrpSpPr/>
          <p:nvPr/>
        </p:nvGrpSpPr>
        <p:grpSpPr>
          <a:xfrm>
            <a:off x="493560" y="1994040"/>
            <a:ext cx="7785360" cy="3870360"/>
            <a:chOff x="493560" y="1994040"/>
            <a:chExt cx="7785360" cy="3870360"/>
          </a:xfrm>
        </p:grpSpPr>
        <p:pic>
          <p:nvPicPr>
            <p:cNvPr id="197" name="Rectangle 3" descr=""/>
            <p:cNvPicPr/>
            <p:nvPr/>
          </p:nvPicPr>
          <p:blipFill>
            <a:blip r:embed="rId1"/>
            <a:stretch/>
          </p:blipFill>
          <p:spPr>
            <a:xfrm>
              <a:off x="493560" y="1994040"/>
              <a:ext cx="778536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2000160"/>
              <a:ext cx="777240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Hidratos de Carbo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Líp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Regulación a nivel de la Transcripcion ó de la Tra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215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Glucoquinasa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, Glucógeno sintas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 las reacciones irreversibles de la vía glicolítica y enzimas específicas de la gluconeogén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Líp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s-ES" sz="3200" spc="-1" strike="noStrike">
                <a:solidFill>
                  <a:srgbClr val="3333ff"/>
                </a:solidFill>
                <a:latin typeface="Times New Roman"/>
              </a:rPr>
              <a:t>Acetil-CoA carboxilasa</a:t>
            </a:r>
            <a:r>
              <a:rPr b="0" lang="es-ES" sz="32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i="1" lang="es-ES" sz="3200" spc="-1" strike="noStrike">
                <a:solidFill>
                  <a:srgbClr val="0000ff"/>
                </a:solidFill>
                <a:latin typeface="Times New Roman"/>
              </a:rPr>
              <a:t>HMG-CoA reductasa, Enzima biosíntesis ácido graso y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Aminoác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l Ciclo de la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886880" cy="1395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síntesis de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ucosa 6-fosfat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considera una encrucijada metabólica, su destino   depende de las necesidades de la cél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¿Cuáles serían los destinos de la misma en un estado de buena nutri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élula en divis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ándula mamaria lac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333000"/>
            <a:ext cx="8820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QUE VIAS METABOLICAS ESTAN ACTIVAS EN LAS SIGUIENTES  SITUACIONE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Cuando se están consumiendo alimentos ricos en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carrera de 100 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marató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2571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iferencia metabólica en el hígado y músculo en situación de “ataque o huíd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 Durante una situación de “ataque o de huída” la adrenalina pone en marcha la degradación de glucógeno en el hígado, corazón y músculo esquelético. El producto final de la degradación del glucógeno en el hígado es la glucosa. En cambio, el producto final en el músculo esquelético es el piruv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0040" y="2999880"/>
            <a:ext cx="8429760" cy="371484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- ¿ Por qué se observan diferentes productos de degradación del glucógeno en los dos teji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- ¿ Cuál es la ventaja para el organismo en una situación de “ataque o huída” de tener estas rutas específicas para la degradación del glucógen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268360" y="17733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6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7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8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224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General de la movilización de Triglicéridos en el Tejido Ad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IDOS GRASOS DE NUMERO IMPAR DE ATOM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beneficios tiene la utilización de ácidos grasos de número impar frente a los de número par de átomos de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vitamina es necesaria para que puedan degradarse los últimos tres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2"/>
          <p:cNvSpPr/>
          <p:nvPr/>
        </p:nvSpPr>
        <p:spPr>
          <a:xfrm>
            <a:off x="1692360" y="2276640"/>
            <a:ext cx="4657680" cy="3590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08720" cy="10083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547640" y="1413000"/>
            <a:ext cx="182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sang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8360" y="1449360"/>
            <a:ext cx="355140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 y         Quilomic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     (di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908000" y="2852640"/>
            <a:ext cx="154332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284720" y="2852640"/>
            <a:ext cx="2087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403280" y="3754440"/>
            <a:ext cx="18734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211640" y="3835440"/>
            <a:ext cx="2303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905560" y="4416480"/>
            <a:ext cx="2672280" cy="458280"/>
          </a:xfrm>
          <a:prstGeom prst="rect">
            <a:avLst/>
          </a:prstGeom>
          <a:solidFill>
            <a:srgbClr val="f6cf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I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819520" y="5229360"/>
            <a:ext cx="1295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114440" y="5205240"/>
            <a:ext cx="197280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405800" y="6127920"/>
            <a:ext cx="12380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5800320" y="5877000"/>
            <a:ext cx="290556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Complejos ác. gras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lbú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81280" y="2133720"/>
            <a:ext cx="0" cy="6858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5435640" y="220500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2637000" y="3311640"/>
            <a:ext cx="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>
            <a:off x="5118120" y="323532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2700000" y="5553000"/>
            <a:ext cx="647640" cy="60336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5076720" y="5491080"/>
            <a:ext cx="432000" cy="505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0"/>
          <p:cNvSpPr/>
          <p:nvPr/>
        </p:nvSpPr>
        <p:spPr>
          <a:xfrm flipH="1">
            <a:off x="3419640" y="4869000"/>
            <a:ext cx="33480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4356000" y="494172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564000" y="599760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25 Elipse"/>
          <p:cNvSpPr/>
          <p:nvPr/>
        </p:nvSpPr>
        <p:spPr>
          <a:xfrm>
            <a:off x="6072120" y="4714920"/>
            <a:ext cx="3071880" cy="1214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ejidos extrahe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86960" cy="250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jido adipo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tejido adiposo tiene un metabolismo dinámico, llevando a cabo biosíntesis de triglicéridos en periodos de prevalencia de sustratos y degradando los mismos en situación de ayuno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respecto al proceso de degradación  expliqu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56680" y="2928960"/>
            <a:ext cx="8458200" cy="35719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ál ó cuales son los estímulos que puede recibir el tejido adiposo para activar la enzima clave para la lip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e productos se liberan a sangre y cual/cuales son su/sus destin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umere situaciones metabólicas: fisiológicas ó patológicas que activen est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monosacar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"/>
          <p:cNvSpPr/>
          <p:nvPr/>
        </p:nvSpPr>
        <p:spPr>
          <a:xfrm>
            <a:off x="2050920" y="220500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2843280" y="2924280"/>
            <a:ext cx="2016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50920" y="1916280"/>
            <a:ext cx="1728720" cy="138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y fru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4417920" y="357336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693960" y="4145040"/>
            <a:ext cx="22464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. Glic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3659040" y="5013360"/>
            <a:ext cx="1812960" cy="72540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500280" y="5940360"/>
            <a:ext cx="2024280" cy="94464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6372360" y="5872320"/>
            <a:ext cx="202392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.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5508720" y="638172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156360" y="3716280"/>
            <a:ext cx="1665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1979640" y="263700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4859280" y="3284640"/>
            <a:ext cx="12970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51640" y="2708280"/>
            <a:ext cx="2233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Vía Pent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 flipV="1">
            <a:off x="5076720" y="2924280"/>
            <a:ext cx="647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987640" y="2205000"/>
            <a:ext cx="187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 flipV="1">
            <a:off x="3995640" y="263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0"/>
          <p:cNvSpPr/>
          <p:nvPr/>
        </p:nvSpPr>
        <p:spPr>
          <a:xfrm>
            <a:off x="4500720" y="57340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116000" y="3716280"/>
            <a:ext cx="237636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"/>
          <p:cNvSpPr/>
          <p:nvPr/>
        </p:nvSpPr>
        <p:spPr>
          <a:xfrm flipV="1">
            <a:off x="2987640" y="3429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 flipH="1">
            <a:off x="2700360" y="6308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24"/>
          <p:cNvSpPr/>
          <p:nvPr/>
        </p:nvSpPr>
        <p:spPr>
          <a:xfrm>
            <a:off x="490680" y="5872320"/>
            <a:ext cx="231300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íntesi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17"/>
          <p:cNvSpPr/>
          <p:nvPr/>
        </p:nvSpPr>
        <p:spPr>
          <a:xfrm>
            <a:off x="3780000" y="5854680"/>
            <a:ext cx="2523960" cy="1003320"/>
          </a:xfrm>
          <a:prstGeom prst="ellipse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3995640" y="6035760"/>
            <a:ext cx="2192400" cy="458280"/>
          </a:xfrm>
          <a:prstGeom prst="rect">
            <a:avLst/>
          </a:prstGeom>
          <a:solidFill>
            <a:srgbClr val="ab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"/>
          <p:cNvSpPr/>
          <p:nvPr/>
        </p:nvSpPr>
        <p:spPr>
          <a:xfrm>
            <a:off x="2124000" y="249228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59680" cy="11397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abolismo de los Acidos Grasos en el HÍ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521760" y="1557360"/>
            <a:ext cx="2015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300720" y="2924280"/>
            <a:ext cx="27972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 (unidos Albúmina) llegan de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076720" y="4365720"/>
            <a:ext cx="23036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DH, 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2987640" y="4365720"/>
            <a:ext cx="1655640" cy="39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xid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5364000" y="2133720"/>
            <a:ext cx="100836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5076720" y="3573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781440" y="5086440"/>
            <a:ext cx="21574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4716360" y="40053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2771640" y="537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5"/>
          <p:cNvSpPr/>
          <p:nvPr/>
        </p:nvSpPr>
        <p:spPr>
          <a:xfrm>
            <a:off x="4716360" y="4005360"/>
            <a:ext cx="360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4859280" y="5589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6372360" y="6165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4"/>
          <p:cNvSpPr/>
          <p:nvPr/>
        </p:nvSpPr>
        <p:spPr>
          <a:xfrm>
            <a:off x="6588000" y="59500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7451640" y="6021360"/>
            <a:ext cx="86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3209760" y="558972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9"/>
          <p:cNvSpPr/>
          <p:nvPr/>
        </p:nvSpPr>
        <p:spPr>
          <a:xfrm>
            <a:off x="2914920" y="2852640"/>
            <a:ext cx="246492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ipidos hepa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0"/>
          <p:cNvSpPr/>
          <p:nvPr/>
        </p:nvSpPr>
        <p:spPr>
          <a:xfrm>
            <a:off x="2987280" y="3429000"/>
            <a:ext cx="204876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324000" y="5013360"/>
            <a:ext cx="2016000" cy="45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MG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318960" y="3352680"/>
            <a:ext cx="11620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3"/>
          <p:cNvSpPr/>
          <p:nvPr/>
        </p:nvSpPr>
        <p:spPr>
          <a:xfrm>
            <a:off x="1547640" y="3645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2556000" y="2492280"/>
            <a:ext cx="296640" cy="22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eri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5"/>
          <p:cNvSpPr/>
          <p:nvPr/>
        </p:nvSpPr>
        <p:spPr>
          <a:xfrm>
            <a:off x="2160" y="6165720"/>
            <a:ext cx="15080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6"/>
          <p:cNvSpPr/>
          <p:nvPr/>
        </p:nvSpPr>
        <p:spPr>
          <a:xfrm>
            <a:off x="1619280" y="60912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7"/>
          <p:cNvSpPr/>
          <p:nvPr/>
        </p:nvSpPr>
        <p:spPr>
          <a:xfrm flipH="1">
            <a:off x="880560" y="5646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1835280" y="56610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9"/>
          <p:cNvSpPr/>
          <p:nvPr/>
        </p:nvSpPr>
        <p:spPr>
          <a:xfrm flipH="1" flipV="1">
            <a:off x="3851280" y="5805360"/>
            <a:ext cx="433440" cy="14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0"/>
          <p:cNvSpPr/>
          <p:nvPr/>
        </p:nvSpPr>
        <p:spPr>
          <a:xfrm>
            <a:off x="0" y="4724280"/>
            <a:ext cx="3203640" cy="213372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400" y="3789360"/>
            <a:ext cx="9135360" cy="2962080"/>
            <a:chOff x="5400" y="3789360"/>
            <a:chExt cx="9135360" cy="2962080"/>
          </a:xfrm>
        </p:grpSpPr>
        <p:sp>
          <p:nvSpPr>
            <p:cNvPr id="61" name="AutoShape 3"/>
            <p:cNvSpPr/>
            <p:nvPr/>
          </p:nvSpPr>
          <p:spPr>
            <a:xfrm flipH="1">
              <a:off x="3419640" y="4292640"/>
              <a:ext cx="1800000" cy="431640"/>
            </a:xfrm>
            <a:custGeom>
              <a:avLst/>
              <a:gdLst>
                <a:gd name="textAreaLeft" fmla="*/ 315000 w 1800000"/>
                <a:gd name="textAreaRight" fmla="*/ 1305000 w 180000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6066000" y="3789360"/>
              <a:ext cx="307476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ecurs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Mono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Ácidos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minoác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Bases nitrogen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400" y="4097160"/>
              <a:ext cx="271980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2340000" y="4581360"/>
              <a:ext cx="3672000" cy="1368720"/>
            </a:xfrm>
            <a:prstGeom prst="leftArrow">
              <a:avLst>
                <a:gd name="adj1" fmla="val 41296"/>
                <a:gd name="adj2" fmla="val 51780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2160" y="260280"/>
            <a:ext cx="9140400" cy="4176720"/>
            <a:chOff x="2160" y="260280"/>
            <a:chExt cx="9140400" cy="4176720"/>
          </a:xfrm>
        </p:grpSpPr>
        <p:sp>
          <p:nvSpPr>
            <p:cNvPr id="66" name="Text Box 8"/>
            <p:cNvSpPr/>
            <p:nvPr/>
          </p:nvSpPr>
          <p:spPr>
            <a:xfrm>
              <a:off x="2160" y="549360"/>
              <a:ext cx="2262600" cy="2654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utri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nten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arbohidr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2340000" y="765000"/>
              <a:ext cx="4896000" cy="1584360"/>
            </a:xfrm>
            <a:prstGeom prst="rightArrow">
              <a:avLst>
                <a:gd name="adj1" fmla="val 45657"/>
                <a:gd name="adj2" fmla="val 57669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370640" y="260280"/>
              <a:ext cx="1771920" cy="3107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_tradnl" sz="2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_tradnl" sz="2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24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4211640" y="2492280"/>
              <a:ext cx="2016000" cy="172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5974920" y="2755800"/>
              <a:ext cx="118368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3"/>
            <p:cNvSpPr/>
            <p:nvPr/>
          </p:nvSpPr>
          <p:spPr>
            <a:xfrm>
              <a:off x="3203640" y="1989000"/>
              <a:ext cx="2016000" cy="505080"/>
            </a:xfrm>
            <a:custGeom>
              <a:avLst/>
              <a:gdLst>
                <a:gd name="textAreaLeft" fmla="*/ 352800 w 2016000"/>
                <a:gd name="textAreaRight" fmla="*/ 1461600 w 2016000"/>
                <a:gd name="textAreaTop" fmla="*/ 67680 h 505080"/>
                <a:gd name="textAreaBottom" fmla="*/ 4374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2050920" y="2565360"/>
              <a:ext cx="2160720" cy="18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_tradnl" sz="2400" spc="-1" strike="noStrike" baseline="26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DP+HPO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3"/>
          <p:cNvSpPr/>
          <p:nvPr/>
        </p:nvSpPr>
        <p:spPr>
          <a:xfrm>
            <a:off x="4716360" y="4365720"/>
            <a:ext cx="98748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2"/>
          <p:cNvSpPr/>
          <p:nvPr/>
        </p:nvSpPr>
        <p:spPr>
          <a:xfrm>
            <a:off x="2050920" y="2492280"/>
            <a:ext cx="635328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21480" cy="944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Aminoác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53400" y="1703520"/>
            <a:ext cx="2719440" cy="45828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inas hep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50920" y="1268280"/>
            <a:ext cx="23400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ucleótidos Horm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fi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0226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6659640" y="1268280"/>
            <a:ext cx="223344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438280" y="373392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492360" y="2924280"/>
            <a:ext cx="2374920" cy="82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inoácidos en el 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6877080" y="3357720"/>
            <a:ext cx="194472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                      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7020000" y="2349360"/>
            <a:ext cx="1511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s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211640" y="227448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5796000" y="1844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V="1">
            <a:off x="5940360" y="278100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940360" y="3573360"/>
            <a:ext cx="79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 flipH="1" flipV="1">
            <a:off x="2700000" y="2276640"/>
            <a:ext cx="10969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5292720" y="4508640"/>
            <a:ext cx="9716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6516720" y="479736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6877080" y="4508640"/>
            <a:ext cx="865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0" y="4941720"/>
            <a:ext cx="169236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ógeno 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2055600" y="5157720"/>
            <a:ext cx="123660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4"/>
          <p:cNvSpPr/>
          <p:nvPr/>
        </p:nvSpPr>
        <p:spPr>
          <a:xfrm flipH="1">
            <a:off x="3225600" y="5373720"/>
            <a:ext cx="3380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5"/>
          <p:cNvSpPr/>
          <p:nvPr/>
        </p:nvSpPr>
        <p:spPr>
          <a:xfrm flipH="1">
            <a:off x="1692360" y="5373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284720" y="573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1547640" y="6093000"/>
            <a:ext cx="19875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8"/>
          <p:cNvSpPr/>
          <p:nvPr/>
        </p:nvSpPr>
        <p:spPr>
          <a:xfrm flipH="1">
            <a:off x="3492360" y="6237360"/>
            <a:ext cx="3384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5400" y="6021360"/>
            <a:ext cx="11682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0"/>
          <p:cNvSpPr/>
          <p:nvPr/>
        </p:nvSpPr>
        <p:spPr>
          <a:xfrm flipH="1">
            <a:off x="1116000" y="6237360"/>
            <a:ext cx="450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8106120" y="5373720"/>
            <a:ext cx="793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-9216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5"/>
          <p:cNvSpPr/>
          <p:nvPr/>
        </p:nvSpPr>
        <p:spPr>
          <a:xfrm>
            <a:off x="7451640" y="5661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3276720" y="3860640"/>
            <a:ext cx="2663640" cy="45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GRA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7"/>
          <p:cNvSpPr/>
          <p:nvPr/>
        </p:nvSpPr>
        <p:spPr>
          <a:xfrm>
            <a:off x="3576600" y="5013360"/>
            <a:ext cx="1932120" cy="657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8"/>
          <p:cNvSpPr/>
          <p:nvPr/>
        </p:nvSpPr>
        <p:spPr>
          <a:xfrm>
            <a:off x="3780000" y="6012000"/>
            <a:ext cx="1931760" cy="6570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9"/>
          <p:cNvSpPr/>
          <p:nvPr/>
        </p:nvSpPr>
        <p:spPr>
          <a:xfrm>
            <a:off x="5580000" y="5373720"/>
            <a:ext cx="2232000" cy="647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0"/>
          <p:cNvSpPr/>
          <p:nvPr/>
        </p:nvSpPr>
        <p:spPr>
          <a:xfrm flipV="1">
            <a:off x="5651640" y="6021360"/>
            <a:ext cx="7444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4"/>
          <p:cNvSpPr/>
          <p:nvPr/>
        </p:nvSpPr>
        <p:spPr>
          <a:xfrm>
            <a:off x="324000" y="2637000"/>
            <a:ext cx="194436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2340000" y="3284640"/>
            <a:ext cx="1079640" cy="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6"/>
          <p:cNvSpPr/>
          <p:nvPr/>
        </p:nvSpPr>
        <p:spPr>
          <a:xfrm>
            <a:off x="179280" y="3789360"/>
            <a:ext cx="18716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inoácidos Proteínas 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7"/>
          <p:cNvSpPr/>
          <p:nvPr/>
        </p:nvSpPr>
        <p:spPr>
          <a:xfrm flipV="1">
            <a:off x="2195640" y="3933360"/>
            <a:ext cx="1152360" cy="358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49"/>
          <p:cNvSpPr/>
          <p:nvPr/>
        </p:nvSpPr>
        <p:spPr>
          <a:xfrm rot="5943600">
            <a:off x="5879520" y="4137120"/>
            <a:ext cx="289080" cy="314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4572000" y="4437000"/>
            <a:ext cx="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44 Elipse"/>
          <p:cNvSpPr/>
          <p:nvPr/>
        </p:nvSpPr>
        <p:spPr>
          <a:xfrm>
            <a:off x="2286000" y="4286160"/>
            <a:ext cx="2071800" cy="714600"/>
          </a:xfrm>
          <a:prstGeom prst="ellipse">
            <a:avLst/>
          </a:prstGeom>
          <a:solidFill>
            <a:srgbClr val="ffe5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. 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46 Conector recto de flecha"/>
          <p:cNvCxnSpPr>
            <a:endCxn id="376" idx="6"/>
          </p:cNvCxnSpPr>
          <p:nvPr/>
        </p:nvCxnSpPr>
        <p:spPr>
          <a:xfrm flipH="1">
            <a:off x="4284360" y="4429080"/>
            <a:ext cx="216720" cy="3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3080" cy="890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631960" y="1197000"/>
            <a:ext cx="15750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148360" y="1413000"/>
            <a:ext cx="160632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680" y="2870280"/>
            <a:ext cx="255780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680560" y="4192560"/>
            <a:ext cx="12549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5062680" y="4192560"/>
            <a:ext cx="110304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907440" y="5334120"/>
            <a:ext cx="179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6539040" y="3200400"/>
            <a:ext cx="22161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6816600" y="3962520"/>
            <a:ext cx="151128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111240" y="134136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348000" y="2060640"/>
            <a:ext cx="2886120" cy="10540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15"/>
          <p:cNvSpPr/>
          <p:nvPr/>
        </p:nvSpPr>
        <p:spPr>
          <a:xfrm>
            <a:off x="3328920" y="3124080"/>
            <a:ext cx="269712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2593800" y="3141720"/>
            <a:ext cx="38275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8"/>
          <p:cNvSpPr/>
          <p:nvPr/>
        </p:nvSpPr>
        <p:spPr>
          <a:xfrm>
            <a:off x="7791480" y="3576600"/>
            <a:ext cx="7174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9"/>
          <p:cNvSpPr/>
          <p:nvPr/>
        </p:nvSpPr>
        <p:spPr>
          <a:xfrm>
            <a:off x="7653240" y="3652920"/>
            <a:ext cx="21456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0"/>
          <p:cNvSpPr/>
          <p:nvPr/>
        </p:nvSpPr>
        <p:spPr>
          <a:xfrm>
            <a:off x="3573360" y="4660920"/>
            <a:ext cx="225108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6372360" y="5445000"/>
            <a:ext cx="17715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2"/>
          <p:cNvSpPr/>
          <p:nvPr/>
        </p:nvSpPr>
        <p:spPr>
          <a:xfrm>
            <a:off x="5813280" y="57913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3"/>
          <p:cNvSpPr/>
          <p:nvPr/>
        </p:nvSpPr>
        <p:spPr>
          <a:xfrm flipH="1">
            <a:off x="2987640" y="573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34920" y="5229360"/>
            <a:ext cx="287964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5"/>
          <p:cNvSpPr/>
          <p:nvPr/>
        </p:nvSpPr>
        <p:spPr>
          <a:xfrm>
            <a:off x="6375600" y="465300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216000" y="2293920"/>
            <a:ext cx="3527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ligera o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443640" y="2852640"/>
            <a:ext cx="100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769160" cy="1253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44320" y="3429000"/>
            <a:ext cx="1236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750400" y="3887640"/>
            <a:ext cx="1254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5299200" y="3933720"/>
            <a:ext cx="7930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2411280" y="508464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Transporte electrogénico por la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11"/>
          <p:cNvSpPr/>
          <p:nvPr/>
        </p:nvSpPr>
        <p:spPr>
          <a:xfrm>
            <a:off x="3708360" y="4437000"/>
            <a:ext cx="1703520" cy="611280"/>
          </a:xfrm>
          <a:prstGeom prst="pie">
            <a:avLst/>
          </a:prstGeom>
          <a:noFill/>
          <a:ln cap="rnd"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2"/>
          <p:cNvSpPr/>
          <p:nvPr/>
        </p:nvSpPr>
        <p:spPr>
          <a:xfrm flipV="1">
            <a:off x="1187280" y="4005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468360" y="4653000"/>
            <a:ext cx="16095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324000" y="1628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YUNO,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METABOLIC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ICLO AYUNO-ALI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438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34920" y="1773360"/>
            <a:ext cx="8640720" cy="5065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132000" y="3716280"/>
            <a:ext cx="100836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24360" y="530064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An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716360" y="3645000"/>
            <a:ext cx="2232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eto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16720" y="2492280"/>
            <a:ext cx="136836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788000" y="4437000"/>
            <a:ext cx="1800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3"/>
          <p:cNvSpPr/>
          <p:nvPr/>
        </p:nvSpPr>
        <p:spPr>
          <a:xfrm>
            <a:off x="179280" y="3141720"/>
            <a:ext cx="1871640" cy="122400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268360" y="3139920"/>
            <a:ext cx="2016360" cy="115272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 rot="16200000">
            <a:off x="1295280" y="728640"/>
            <a:ext cx="1224000" cy="3313080"/>
          </a:xfrm>
          <a:prstGeom prst="leftArrowCallout">
            <a:avLst>
              <a:gd name="adj1" fmla="val 67675"/>
              <a:gd name="adj2" fmla="val 67669"/>
              <a:gd name="adj3" fmla="val 16667"/>
              <a:gd name="adj4" fmla="val 66673"/>
            </a:avLst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5640" y="19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rot="16200000">
            <a:off x="5904000" y="151920"/>
            <a:ext cx="1368360" cy="4032360"/>
          </a:xfrm>
          <a:prstGeom prst="leftArrowCallout">
            <a:avLst>
              <a:gd name="adj1" fmla="val 73678"/>
              <a:gd name="adj2" fmla="val 73671"/>
              <a:gd name="adj3" fmla="val 16667"/>
              <a:gd name="adj4" fmla="val 66673"/>
            </a:avLst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 flipH="1" flipV="1" rot="10800000">
            <a:off x="5507640" y="1773360"/>
            <a:ext cx="24908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940360" y="3068640"/>
            <a:ext cx="1513080" cy="520560"/>
          </a:xfrm>
          <a:prstGeom prst="rect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55640" y="189000"/>
            <a:ext cx="8064360" cy="8006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4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200000">
            <a:off x="6084000" y="2851920"/>
            <a:ext cx="1440000" cy="4321440"/>
          </a:xfrm>
          <a:prstGeom prst="leftArrowCallout">
            <a:avLst>
              <a:gd name="adj1" fmla="val 75032"/>
              <a:gd name="adj2" fmla="val 75025"/>
              <a:gd name="adj3" fmla="val 16667"/>
              <a:gd name="adj4" fmla="val 6667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DER RE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012000" y="6093000"/>
            <a:ext cx="18730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69160" cy="86508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PEL REGULADOR DEL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7160" y="1341360"/>
            <a:ext cx="15750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1240" y="1341360"/>
            <a:ext cx="110088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3360" y="1341360"/>
            <a:ext cx="142236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247080" y="1341360"/>
            <a:ext cx="23796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258444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11480" y="2571840"/>
            <a:ext cx="178416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040280" y="249228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61280" y="229716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124080" y="400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54480" y="5373720"/>
            <a:ext cx="793080" cy="458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370120" y="3213000"/>
            <a:ext cx="730800" cy="50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7621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990720" y="187452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8195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2971800" y="186840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46483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480060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08660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723888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1547640" y="3100320"/>
            <a:ext cx="1008360" cy="615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3419640" y="2976480"/>
            <a:ext cx="72720" cy="7398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4427280" y="2997360"/>
            <a:ext cx="390600" cy="718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411280" y="3645000"/>
            <a:ext cx="2219400" cy="1152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3635280" y="4869000"/>
            <a:ext cx="238320" cy="390240"/>
          </a:xfrm>
          <a:prstGeom prst="downArrow">
            <a:avLst>
              <a:gd name="adj1" fmla="val 50000"/>
              <a:gd name="adj2" fmla="val 40952"/>
            </a:avLst>
          </a:prstGeom>
          <a:solidFill>
            <a:srgbClr val="1fb13b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4643280" y="3213000"/>
            <a:ext cx="505080" cy="36036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6084720" y="3716280"/>
            <a:ext cx="1225800" cy="466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0"/>
          <p:cNvSpPr/>
          <p:nvPr/>
        </p:nvSpPr>
        <p:spPr>
          <a:xfrm>
            <a:off x="5076720" y="3573360"/>
            <a:ext cx="80496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4211640" y="4941720"/>
            <a:ext cx="649440" cy="1916280"/>
          </a:xfrm>
          <a:prstGeom prst="pie">
            <a:avLst/>
          </a:prstGeom>
          <a:noFill/>
          <a:ln cap="rnd"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4716360" y="5013360"/>
            <a:ext cx="719280" cy="5763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757760" y="5948280"/>
            <a:ext cx="677880" cy="576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651640" y="4869000"/>
            <a:ext cx="316836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ías que consumen energía (Biosínt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565600" y="5846760"/>
            <a:ext cx="339912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generadores de energía (Degrad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 flipV="1">
            <a:off x="2484000" y="50385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79280" y="482292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ransporte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99760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idos Nucle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9"/>
          <p:cNvSpPr/>
          <p:nvPr/>
        </p:nvSpPr>
        <p:spPr>
          <a:xfrm flipH="1">
            <a:off x="2411280" y="6046920"/>
            <a:ext cx="8654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34920" y="5470560"/>
            <a:ext cx="28083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 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1"/>
          <p:cNvSpPr/>
          <p:nvPr/>
        </p:nvSpPr>
        <p:spPr>
          <a:xfrm flipH="1">
            <a:off x="2916000" y="57578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150336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jemplifique en cada caso de que manera el ATP actúa como regul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abe9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saminación oxidativa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Biosíntesis de nucleótidos pú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424720" cy="90792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DER REDUCTOR-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61000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IO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TENER REDUCIDO EL GL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DUCCION DE COENZIMAS: BH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LUTAM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GRADACION DEL HEMO:HEMOOXI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ITOCROMO P450 EN MICR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80000" y="2349360"/>
            <a:ext cx="46796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CIDOS GRASOS SATURADOS E INSAT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HORMONAS ESTERO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UCLEO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360" y="1197000"/>
            <a:ext cx="8820360" cy="8254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 SINTETIZA EN VIA PENTOSAS Y EN REACCION DE LA ENZIMA M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62920" cy="12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imes New Roman"/>
              </a:rPr>
              <a:t>2) El NADPH es un agente reductor  importante utilizado en rutas anabólic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714680"/>
            <a:ext cx="9144000" cy="45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a)  Ejemplifique con reacciones de 3 vías metabólicas diferentes donde se utilice este compue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b) Esquematice reacciones donde se reponga NADPH a partir de la forma oxid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c) Indique la importancia de ese compuesto en reacciones de detoxificación. (recuerde la importancia del citocromo P4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Irma</cp:lastModifiedBy>
  <dcterms:modified xsi:type="dcterms:W3CDTF">2013-10-29T21:01:28Z</dcterms:modified>
  <cp:revision>128</cp:revision>
  <dc:subject/>
  <dc:title>Destinos de Piruvato y de Acetil-CoA</dc:title>
</cp:coreProperties>
</file>